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718-D1EB-44DB-B4B2-45F5EF72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3B2-0C8E-4239-A6CA-03512590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989-6D94-40E7-932D-4C51B7F5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480-421C-4403-A776-3950FD5A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773-4E78-467C-9B53-6828798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133-F90E-4021-91B3-4FE76603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D6F-3D29-4957-B366-3DBC4E46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989-3707-4FA7-ACBD-D1D8E043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765-9D56-405C-903E-A288929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42A-240B-4545-A673-D7F9358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DB2-9762-424A-B0B7-42045F5C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FEB-B3AC-4F4E-84EC-04DE1B3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095-8AE2-43B6-90B9-E65D48C45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3:51:48Z</dcterms:created>
  <dc:creator>abeason</dc:creator>
  <dc:description/>
  <dc:language>en-US</dc:language>
  <cp:lastModifiedBy>abeason</cp:lastModifiedBy>
  <dcterms:modified xsi:type="dcterms:W3CDTF">2010-04-08T13:51:52Z</dcterms:modified>
  <cp:revision>1</cp:revision>
  <dc:subject/>
  <dc:title>Slide 1</dc:title>
</cp:coreProperties>
</file>